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CAD8-4136-49C6-BFC8-1E632C6B9D2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99"/>
                </a:solidFill>
                <a:latin typeface="Monotype Corsiva"/>
              </a:rPr>
              <a:t>Ландшафтный</a:t>
            </a:r>
            <a:r>
              <a:rPr b="0" i="1" lang="ru-RU" sz="1600" spc="-1" strike="noStrike">
                <a:solidFill>
                  <a:srgbClr val="ff3399"/>
                </a:solidFill>
                <a:latin typeface="Monotype Corsiva"/>
              </a:rPr>
              <a:t> дизайн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Выполне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Курепнёвой Юл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EF07-C7A3-4FAE-A9A7-E8525396893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Monotype Corsiva"/>
              </a:rPr>
              <a:t>Дизайнерские</a:t>
            </a: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ff3399"/>
                </a:solidFill>
                <a:latin typeface="Monotype Corsiva"/>
              </a:rPr>
              <a:t>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B49E-6CAB-4602-9EA0-8ABD993FD43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99"/>
                </a:solidFill>
                <a:latin typeface="Monotype Corsiva"/>
              </a:rPr>
              <a:t>Использованные материал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овалась материалами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нтернет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9FAC-CE0B-4B4B-A6A4-F2133863035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99"/>
                </a:solidFill>
                <a:latin typeface="Monotype Corsiva"/>
              </a:rPr>
              <a:t>Ландшафтный дизайн</a:t>
            </a:r>
            <a:r>
              <a:rPr b="1" i="1" lang="ru-RU" sz="3200" spc="-1" strike="noStrike">
                <a:solidFill>
                  <a:srgbClr val="336600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ff3399"/>
                </a:solidFill>
                <a:latin typeface="Monotype Corsiva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дновременно и искусство и работа по озеленению и благоустройству территории включающее в себя проектирование и создание садово-парковых насаждений, газонов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EDD4-897C-4260-8613-07547F98F39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99"/>
                </a:solidFill>
                <a:latin typeface="Monotype Corsiva"/>
              </a:rPr>
              <a:t>Стили ландшафтного дизай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DFA6-C9E5-4254-A560-25FD81CCE10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Monotype Corsiva"/>
              </a:rPr>
              <a:t>Регулярный стиль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ад имеет ярко выраженную основную ось композиции — стержень всего распланированного пространства, расположение элементов и конструкций подчинено строгой геометрии и симметр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46C8-5C96-4704-8640-2C1202B5C6F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99"/>
                </a:solidFill>
                <a:latin typeface="Monotype Corsiva"/>
              </a:rPr>
              <a:t>Английский (пейзажный) сад</a:t>
            </a:r>
            <a:br>
              <a:rPr sz="28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естественность в размещении элементов и большую плавность линий, имитируя природный ландшафт: извилистые дорожки, живописные водоемы, "натуральные" композиции из растений, которые высаживаются ярусами (деревья, кустарники, подлесок, цвет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3B46-FEB9-4379-AACC-981680FBF05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99"/>
                </a:solidFill>
                <a:latin typeface="Monotype Corsiva"/>
              </a:rPr>
              <a:t>Китайский сад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, прежде всего пейзажный сад, где отдельные архитектурные формы несут символическое значени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ойство ландшафта китайского сада подчинено законам фэн-шуй – законам гармонии и балан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A85C-288B-4860-AE12-C7A4843B1BA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99"/>
                </a:solidFill>
                <a:latin typeface="Monotype Corsiva"/>
              </a:rPr>
              <a:t>Японский стиль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японском са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ограниченном пространстве создается модель мира; она представляет собой уменьшенную копию пейзажа. Основными элементами таких садов являются небольшие озера с арочными мостиками, павильоны с черепичными крышами, композиции из натуральных камн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091C-8504-419E-87B0-C24780632E6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99"/>
                </a:solidFill>
                <a:latin typeface="Monotype Corsiva"/>
              </a:rPr>
              <a:t>Стиль кантр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брал в себя яркие пятна цветников, заброшенную скамейку в старом фруктовом саду, душистые заросли сирени и жасмина, залитые солнцем зеленые лужайки - в общем, все то, что дарит нашей душе ощущение радости и безмятежности и так привлекает в загородной жизни. Именно это направление ландшафтного дизайна наиболее близко менталитету и наиболее приемлемо для большинства наших отечественных садов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FD40-ACF7-4579-A8EC-A329D2BFEE3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Monotype Corsiva"/>
              </a:rPr>
              <a:t>Немного</a:t>
            </a:r>
            <a:r>
              <a:rPr b="0" lang="ru-RU" sz="1200" spc="-1" strike="noStrike">
                <a:solidFill>
                  <a:srgbClr val="ff3399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ff3399"/>
                </a:solidFill>
                <a:latin typeface="Monotype Corsiva"/>
              </a:rPr>
              <a:t>фантази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97C4-2222-4049-8950-AC84A0FDE81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F05F-D8C5-4822-B947-A5C26BE0B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DEF9-06EA-4BF0-8543-D2F7AA4E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0F32-87CB-4234-87B1-FBB173251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0116-3005-4A36-B67A-482AA5177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13AA-0581-4B96-A173-A70F5BB5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76E2-4425-409E-9264-59C6B42D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E0AB-4B49-4126-A47A-37B4538D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58EF-C92B-4F4D-BCF5-E093B758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02FD-637A-49BB-9746-4183D32A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EB80-FC1A-4571-A1C7-64158ACA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27A5-E375-49C9-8493-D5FA0C9F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141C-CE0A-44CD-83A5-2D715674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D5D7-1533-45AC-ACB7-16625E92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84CA-B788-485E-9C85-D5C7EC62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43E4-1AD5-4864-A505-CF497834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42FD-766E-4E4E-9DC0-C174110D1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076D-6020-450A-BADA-402CEEDC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C670-350F-4FFE-A156-48EBD16F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B19E-D724-4B2C-A5F9-3BD8D189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852E-54D4-4727-9D14-8E04CA86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32D6-2DD3-4236-A67B-40A94C6A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A79F-2010-46AD-9AFB-5F1858FB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BF7B-80D4-4619-ADA5-A57256E7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B0DB-B062-4B4B-8FE7-40CDE699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820D-273B-4423-861E-40965BD9C4A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DF67-4B38-4AF4-B63A-15C9FCE6535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0" descr="post-591-1245698642_thumb"/>
          <p:cNvPicPr/>
          <p:nvPr/>
        </p:nvPicPr>
        <p:blipFill>
          <a:blip r:embed="rId1"/>
          <a:stretch/>
        </p:blipFill>
        <p:spPr>
          <a:xfrm>
            <a:off x="0" y="-38160"/>
            <a:ext cx="9252000" cy="6896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3399"/>
                </a:solidFill>
                <a:latin typeface="Monotype Corsiva"/>
              </a:rPr>
              <a:t>Ландшафтный</a:t>
            </a:r>
            <a:r>
              <a:rPr b="0" i="1" lang="ru-RU" sz="4000" spc="-1" strike="noStrike">
                <a:solidFill>
                  <a:srgbClr val="ff3399"/>
                </a:solidFill>
                <a:latin typeface="Monotype Corsiva"/>
              </a:rPr>
              <a:t> дизайн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4984560"/>
            <a:ext cx="425916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Tahoma"/>
              </a:rPr>
              <a:t>Выполнен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Tahoma"/>
              </a:rPr>
              <a:t>Курепнёвой Юли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Дизайнерские</a:t>
            </a:r>
            <a:r>
              <a:rPr b="0" lang="ru-RU" sz="5400" spc="-1" strike="noStrike">
                <a:solidFill>
                  <a:srgbClr val="ffffcc"/>
                </a:solidFill>
                <a:latin typeface="Monotype Corsiva"/>
              </a:rPr>
              <a:t> </a:t>
            </a: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решения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6" name="Picture 12" descr="0_39f_167ad173_XL"/>
          <p:cNvPicPr/>
          <p:nvPr/>
        </p:nvPicPr>
        <p:blipFill>
          <a:blip r:embed="rId1"/>
          <a:stretch/>
        </p:blipFill>
        <p:spPr>
          <a:xfrm>
            <a:off x="179280" y="1916280"/>
            <a:ext cx="4319640" cy="4752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curb-appeal-fall_house-e1286394205512"/>
          <p:cNvPicPr/>
          <p:nvPr/>
        </p:nvPicPr>
        <p:blipFill>
          <a:blip r:embed="rId2"/>
          <a:stretch/>
        </p:blipFill>
        <p:spPr>
          <a:xfrm>
            <a:off x="4643280" y="1557360"/>
            <a:ext cx="4500720" cy="45356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244080"/>
            <a:ext cx="8496000" cy="23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3399"/>
                </a:solidFill>
                <a:latin typeface="Monotype Corsiva"/>
              </a:rPr>
              <a:t>Использованные материалы</a:t>
            </a:r>
            <a:br>
              <a:rPr sz="6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0071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ьзовалась материалами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терне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137(1)"/>
          <p:cNvPicPr/>
          <p:nvPr/>
        </p:nvPicPr>
        <p:blipFill>
          <a:blip r:embed="rId1"/>
          <a:stretch/>
        </p:blipFill>
        <p:spPr>
          <a:xfrm>
            <a:off x="1763640" y="2781360"/>
            <a:ext cx="5832720" cy="362088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99"/>
                </a:solidFill>
                <a:latin typeface="Monotype Corsiva"/>
              </a:rPr>
              <a:t>Ландшафтный дизайн</a:t>
            </a:r>
            <a:r>
              <a:rPr b="1" i="1" lang="ru-RU" sz="6000" spc="-1" strike="noStrike">
                <a:solidFill>
                  <a:srgbClr val="336600"/>
                </a:solidFill>
                <a:latin typeface="Monotype Corsiva"/>
              </a:rPr>
              <a:t> </a:t>
            </a:r>
            <a:r>
              <a:rPr b="1" i="1" lang="ru-RU" sz="6000" spc="-1" strike="noStrike">
                <a:solidFill>
                  <a:srgbClr val="ff3399"/>
                </a:solidFill>
                <a:latin typeface="Monotype Corsiva"/>
              </a:rPr>
              <a:t>- 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одновременно и искусство и работа по озеленению и благоустройству территории включающее в себя проектирование и создание садово-парковых насаждений, газоно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9" descr="6175"/>
          <p:cNvPicPr/>
          <p:nvPr/>
        </p:nvPicPr>
        <p:blipFill>
          <a:blip r:embed="rId1"/>
          <a:stretch/>
        </p:blipFill>
        <p:spPr>
          <a:xfrm>
            <a:off x="5219640" y="3716280"/>
            <a:ext cx="3635280" cy="2727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landscape6"/>
          <p:cNvPicPr/>
          <p:nvPr/>
        </p:nvPicPr>
        <p:blipFill>
          <a:blip r:embed="rId2"/>
          <a:stretch/>
        </p:blipFill>
        <p:spPr>
          <a:xfrm>
            <a:off x="108000" y="3448080"/>
            <a:ext cx="4824360" cy="322416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5075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3399"/>
                </a:solidFill>
                <a:latin typeface="Monotype Corsiva"/>
              </a:rPr>
              <a:t>Стили ландшафтного дизайна: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Picture 4" descr="13"/>
          <p:cNvPicPr/>
          <p:nvPr/>
        </p:nvPicPr>
        <p:blipFill>
          <a:blip r:embed="rId1"/>
          <a:stretch/>
        </p:blipFill>
        <p:spPr>
          <a:xfrm>
            <a:off x="826920" y="1628640"/>
            <a:ext cx="7561440" cy="52293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Регулярный стиль</a:t>
            </a:r>
            <a:br>
              <a:rPr sz="6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364000" y="1773360"/>
            <a:ext cx="36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сад имеет ярко выраженную основную ось композиции — стержень всего распланированного пространства, расположение элементов и конструкций подчинено строгой геометрии и симметри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100"/>
          <p:cNvPicPr/>
          <p:nvPr/>
        </p:nvPicPr>
        <p:blipFill>
          <a:blip r:embed="rId1"/>
          <a:stretch/>
        </p:blipFill>
        <p:spPr>
          <a:xfrm>
            <a:off x="179280" y="1798560"/>
            <a:ext cx="4969080" cy="47991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Английский (пейзажный) сад</a:t>
            </a:r>
            <a:br>
              <a:rPr sz="4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08000" y="2060640"/>
            <a:ext cx="4535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полагает естественность в размещении элементов и большую плавность линий, имитируя природный ландшафт: извилистые дорожки, живописные водоемы, "натуральные" композиции из растений, которые высаживаются ярусами (деревья, кустарники, подлесок, цветы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10" descr="landscape"/>
          <p:cNvPicPr/>
          <p:nvPr/>
        </p:nvPicPr>
        <p:blipFill>
          <a:blip r:embed="rId1"/>
          <a:stretch/>
        </p:blipFill>
        <p:spPr>
          <a:xfrm>
            <a:off x="395280" y="2060640"/>
            <a:ext cx="4321080" cy="45576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Китайский сад</a:t>
            </a:r>
            <a:br>
              <a:rPr sz="6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49183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, прежде всего пейзажный сад, где отдельные архитектурные формы несут символическое значение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стройство ландшафта китайского сада подчинено законам фэн-шуй – законам гармонии и баланс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9" descr="438b1b7b7b4e"/>
          <p:cNvPicPr/>
          <p:nvPr/>
        </p:nvPicPr>
        <p:blipFill>
          <a:blip r:embed="rId1"/>
          <a:stretch/>
        </p:blipFill>
        <p:spPr>
          <a:xfrm>
            <a:off x="250920" y="3500280"/>
            <a:ext cx="4174920" cy="3127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yapon"/>
          <p:cNvPicPr/>
          <p:nvPr/>
        </p:nvPicPr>
        <p:blipFill>
          <a:blip r:embed="rId2"/>
          <a:stretch/>
        </p:blipFill>
        <p:spPr>
          <a:xfrm>
            <a:off x="4356000" y="2852640"/>
            <a:ext cx="4608720" cy="33847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99"/>
                </a:solidFill>
                <a:latin typeface="Monotype Corsiva"/>
              </a:rPr>
              <a:t>Японский стиль</a:t>
            </a:r>
            <a:br>
              <a:rPr sz="40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64000" y="1557000"/>
            <a:ext cx="3780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японском саду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а ограниченном пространстве создается модель мира; она представляет собой уменьшенную копию пейзажа. Основными элементами таких садов являются небольшие озера с арочными мостиками, павильоны с черепичными крышами, композиции из натуральных камн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13" descr="0_1c92b_e702ed24_XL"/>
          <p:cNvPicPr/>
          <p:nvPr/>
        </p:nvPicPr>
        <p:blipFill>
          <a:blip r:embed="rId1"/>
          <a:stretch/>
        </p:blipFill>
        <p:spPr>
          <a:xfrm>
            <a:off x="179280" y="907920"/>
            <a:ext cx="3888000" cy="2916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0c0d61b4f588"/>
          <p:cNvPicPr/>
          <p:nvPr/>
        </p:nvPicPr>
        <p:blipFill>
          <a:blip r:embed="rId2"/>
          <a:stretch/>
        </p:blipFill>
        <p:spPr>
          <a:xfrm>
            <a:off x="324000" y="3260880"/>
            <a:ext cx="5292720" cy="35971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Стиль кантри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89200" y="1628280"/>
            <a:ext cx="3754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брал в себя яркие пятна цветников, заброшенную скамейку в старом фруктовом саду, душистые заросли сирени и жасмина, залитые солнцем зеленые лужайки - в общем, все то, что дарит нашей душе ощущение радости и безмятежности и так привлекает в загородной жизни. Именно это направление ландшафтного дизайна наиболее близко менталитету и наиболее приемлемо для большинства наших отечественных садовод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13" descr="17"/>
          <p:cNvPicPr/>
          <p:nvPr/>
        </p:nvPicPr>
        <p:blipFill>
          <a:blip r:embed="rId1"/>
          <a:stretch/>
        </p:blipFill>
        <p:spPr>
          <a:xfrm>
            <a:off x="468360" y="3284640"/>
            <a:ext cx="4537080" cy="333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0a1aaaaaa"/>
          <p:cNvPicPr/>
          <p:nvPr/>
        </p:nvPicPr>
        <p:blipFill>
          <a:blip r:embed="rId2"/>
          <a:stretch/>
        </p:blipFill>
        <p:spPr>
          <a:xfrm>
            <a:off x="179280" y="1413000"/>
            <a:ext cx="3348000" cy="2376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Немного</a:t>
            </a:r>
            <a:r>
              <a:rPr b="0" lang="ru-RU" sz="6000" spc="-1" strike="noStrike">
                <a:solidFill>
                  <a:srgbClr val="ff3399"/>
                </a:solidFill>
                <a:latin typeface="Monotype Corsiva"/>
              </a:rPr>
              <a:t> </a:t>
            </a: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фантазии…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Picture 10" descr="34"/>
          <p:cNvPicPr/>
          <p:nvPr/>
        </p:nvPicPr>
        <p:blipFill>
          <a:blip r:embed="rId1"/>
          <a:stretch/>
        </p:blipFill>
        <p:spPr>
          <a:xfrm>
            <a:off x="250920" y="170028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u_846864626"/>
          <p:cNvPicPr/>
          <p:nvPr/>
        </p:nvPicPr>
        <p:blipFill>
          <a:blip r:embed="rId2"/>
          <a:stretch/>
        </p:blipFill>
        <p:spPr>
          <a:xfrm>
            <a:off x="2987640" y="3284640"/>
            <a:ext cx="3456000" cy="3362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59268377_9e2bc17d30de"/>
          <p:cNvPicPr/>
          <p:nvPr/>
        </p:nvPicPr>
        <p:blipFill>
          <a:blip r:embed="rId3"/>
          <a:stretch/>
        </p:blipFill>
        <p:spPr>
          <a:xfrm>
            <a:off x="5076720" y="1341360"/>
            <a:ext cx="3905280" cy="292428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5:55:10Z</dcterms:created>
  <dc:creator>User</dc:creator>
  <dc:description/>
  <dc:language>en-US</dc:language>
  <cp:lastModifiedBy>LEGION</cp:lastModifiedBy>
  <dcterms:modified xsi:type="dcterms:W3CDTF">2015-03-31T08:15:58Z</dcterms:modified>
  <cp:revision>36</cp:revision>
  <dc:subject/>
  <dc:title>Слайд 1</dc:title>
</cp:coreProperties>
</file>